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6A7EB-C878-4F5B-980B-89222B7A42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22CA7-A9B3-49BE-86E2-220E53A89C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6F8-9F70-4F41-AAA0-C1569A0A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B13-1A18-4089-839A-E27E20F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2E7-A61A-4CD4-9227-0551EB95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1E8-01B9-4F3F-9BB7-E6489502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52D-07CE-4D9D-944C-C8F7A847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A19-C25B-45DF-B12A-813153F2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068-46A6-407D-A579-6D7B5939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045-6942-400F-86B5-9367DC20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BAC-FD61-4E42-8F56-2E41814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E2A-70FC-4D77-B912-F8037267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32D-36DA-44D5-89E1-76462888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0FC-F082-4087-8814-99E54405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414FC-EEB4-42A4-B89B-69A0440689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rebuchet MS"/>
                <a:ea typeface="Calibri"/>
              </a:rPr>
              <a:t>CEFR LEV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40960"/>
            <a:ext cx="9070920" cy="504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understand with ease virtually everything heard or 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C1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use language flexibly and effectively for social, aca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and professional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B2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interact with a degree of fluency and spontane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makes  interaction with native speakers quite possible with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strain for either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B1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understand the main points of clear standard inpu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familiar matters encountered in work, school, leisure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A2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communicate in simple and routine tasks requiring a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exchange of information on familiar and routine mat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A1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Can understand and use familiar everyday expressions and 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basic phrases. Can interact in a simple way provided the oth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person talks slowly and clearly and is prepared to hel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985080" y="141120"/>
            <a:ext cx="2959200" cy="69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10:25:36Z</dcterms:created>
  <dc:creator>Jenny Hardacre</dc:creator>
  <dc:description/>
  <dc:language>en-US</dc:language>
  <cp:lastModifiedBy>TEFl Academy</cp:lastModifiedBy>
  <dcterms:modified xsi:type="dcterms:W3CDTF">2017-05-16T14:20:16Z</dcterms:modified>
  <cp:revision>2</cp:revision>
  <dc:subject/>
  <dc:title>CEFR LEVELS</dc:title>
</cp:coreProperties>
</file>