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2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3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4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039320" y="788760"/>
            <a:ext cx="507204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21800" y="4925880"/>
            <a:ext cx="5707080" cy="45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5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dt" idx="20"/>
          </p:nvPr>
        </p:nvSpPr>
        <p:spPr>
          <a:xfrm>
            <a:off x="4093920" y="-360"/>
            <a:ext cx="305892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21"/>
          </p:nvPr>
        </p:nvSpPr>
        <p:spPr>
          <a:xfrm>
            <a:off x="0" y="9852120"/>
            <a:ext cx="30592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22"/>
          </p:nvPr>
        </p:nvSpPr>
        <p:spPr>
          <a:xfrm>
            <a:off x="409392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65B98-FFEC-4624-BF10-5A1A7525153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E9CA3-73F3-4095-BC64-C44C678E9CE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0" y="-22068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C82778-00D4-452F-96ED-BA288A32DC96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D75A-5D56-43C6-B88A-0A98C8DD3F3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0" y="-1262160"/>
            <a:ext cx="144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CB2305-8B73-4A4F-942B-CFBBBD7248E5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9"/>
          <p:cNvSpPr/>
          <p:nvPr/>
        </p:nvSpPr>
        <p:spPr>
          <a:xfrm>
            <a:off x="4094280" y="9852120"/>
            <a:ext cx="305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B5ABA-72CE-48A6-9306-DEFC94ADD40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270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02022B-9DF8-4A5F-B6C7-CAEB9FEF7B4A}" type="slidenum">
              <a:rPr b="0" lang="en-GB" sz="1800" spc="-1" strike="noStrike">
                <a:solidFill>
                  <a:srgbClr val="5a8b25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A2D-5B30-4784-8E54-6B266D0B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07B-E5FC-44C9-8478-8D011E74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34B-0DDA-4D7F-97EA-FC0CB509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20E-AD63-4D8B-B453-48329382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2C75-B61B-44F5-BA72-0DC13D29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8AB4-E2C4-4DFC-A6FF-1F4A167D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29F9-48D0-4721-99E7-9FC54198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A317-C4F9-4132-99D4-99528D5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91AD-FCA5-4587-9A86-013097F0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AB61-081A-4ED9-A0AE-F7C3BE61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E7F-2FE1-487F-A11B-76791AA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C63-1DCC-4E7A-82A7-A162DF7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AAF0-5642-4E6E-A0FA-5C89E51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656-AD8C-4200-91EE-A154F81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030D-B163-4351-985D-288470B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C966-852B-44EA-AFCD-251C4D0E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071-AA0D-4C8D-AA9E-D4C4422F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35CF-8106-4948-BF1B-F00AD246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34D3-19F5-42F8-BAFB-BC731915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033F-07FB-4AAF-A778-D838379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7717-1CCD-452E-8390-D1E03ED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15B2-D4F5-4F37-B3C1-0CF0ED8E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793-52C6-4F7A-9772-FE5E4D2E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BAAD-3F24-4C2D-9F1D-C7D3C9E0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4C37-8427-42CB-85EA-6E5C2C0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AF3A-64C1-43C7-8E8E-A10DE75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0B86-5405-44E3-A005-5A66FDE4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725C-C8F9-416B-B0E5-5D96A3CE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3C93-F16A-47F9-98C4-7190E5B4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E271-AA92-4FF2-90F0-0D12854C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196-EC33-4535-B674-0CB871F6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C74-1B5D-4F5C-A6B1-2706DC10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86F-B1B2-4C4B-8EAB-2324DDC2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C4A-A792-4F72-B189-3256887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49F-A47C-4C2A-92A5-E0D766E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003-492D-408B-9B69-DF73A95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FEBF9-2DEF-442F-8728-6E5CB990B9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7101000" y="14436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6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7056360" y="106200"/>
            <a:ext cx="2793960" cy="7956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19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84FB22-3EB7-4333-BAA5-790969B36564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30/06/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706E04-DFB6-4D46-B854-262161E783EA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6742080" y="108000"/>
            <a:ext cx="3260880" cy="928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7089840" y="250920"/>
            <a:ext cx="2793960" cy="79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7120080" y="204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7230960" y="123840"/>
            <a:ext cx="2793960" cy="797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3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7120080" y="108000"/>
            <a:ext cx="2793960" cy="795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2"/>
          <a:stretch/>
        </p:blipFill>
        <p:spPr>
          <a:xfrm>
            <a:off x="6912000" y="324000"/>
            <a:ext cx="2795400" cy="7952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2920" y="842760"/>
            <a:ext cx="9072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tructuring your less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503280" y="2192400"/>
            <a:ext cx="907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Warmer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generate interest, locate the language to be learned/skill to be practised within wider sequence of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Bod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 ideally at least 3 activities with different focuses to provide lots of variety (pairs, groups, reading, vocabulary, game, visual,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f9638"/>
                </a:solidFill>
                <a:latin typeface="Georgia"/>
              </a:rPr>
              <a:t>Plenary</a:t>
            </a: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: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</a:rPr>
              <a:t>Review as a class what has been learned, e.g. whole class discussion, Q+A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7858080" y="6586560"/>
            <a:ext cx="206532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2920" y="921960"/>
            <a:ext cx="90723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-P-P: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way of presenting new languag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0" y="1825560"/>
            <a:ext cx="10080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5a8b25"/>
                </a:solidFill>
                <a:latin typeface="Georgia"/>
                <a:ea typeface="Microsoft YaHei"/>
              </a:rPr>
              <a:t>  </a:t>
            </a: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ESENT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The teacher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esents</a:t>
            </a:r>
            <a:r>
              <a:rPr b="1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n item of language – usually in context. Class looks at rules of use an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ACTI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do one or more controlled </a:t>
            </a:r>
            <a:r>
              <a:rPr b="1" lang="en-US" sz="2800" spc="-1" strike="noStrike">
                <a:solidFill>
                  <a:srgbClr val="07b4b8"/>
                </a:solidFill>
                <a:latin typeface="Georgia"/>
                <a:ea typeface="Microsoft YaHei"/>
              </a:rPr>
              <a:t>practice 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activities (focus on accu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7b4b8"/>
                </a:solidFill>
                <a:uFillTx/>
                <a:latin typeface="Georgia"/>
                <a:ea typeface="Microsoft YaHei"/>
              </a:rPr>
              <a:t>PRODUCE:</a:t>
            </a:r>
            <a:r>
              <a:rPr b="0" lang="en-US" sz="2800" spc="-1" strike="noStrike">
                <a:solidFill>
                  <a:srgbClr val="7f7f7f"/>
                </a:solidFill>
                <a:latin typeface="Georgia"/>
                <a:ea typeface="Microsoft YaHei"/>
              </a:rPr>
              <a:t> Students use the target language in freer practice activities (focus on fluency)</a:t>
            </a:r>
            <a:br>
              <a:rPr sz="28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  <a:ea typeface="Microsoft YaHei"/>
              </a:rPr>
              <a:t>E.g. Role play, writing task,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5400">
              <a:lnSpc>
                <a:spcPct val="12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Georgia"/>
                <a:ea typeface="Microsoft YaHe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72960" y="634680"/>
            <a:ext cx="9072720" cy="11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Giving Instruction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414360" y="1627200"/>
            <a:ext cx="907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ffc000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f9638"/>
                </a:solidFill>
                <a:latin typeface="Georgia"/>
              </a:rPr>
              <a:t>When planning lessons think about the instructions 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28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Grade your languag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</a:t>
            </a: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only use language the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students already know. Use imperatives, not polite request forms.</a:t>
            </a:r>
            <a:br>
              <a:rPr sz="26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Break instructions up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 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n't tell them everything they have to do at once.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Demonstration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Show, don’t just explain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Example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Do an example as a class e.g. on the board</a:t>
            </a:r>
            <a:br>
              <a:rPr sz="2400"/>
            </a:br>
            <a:r>
              <a:rPr b="1" lang="en-US" sz="2600" spc="-1" strike="noStrike">
                <a:solidFill>
                  <a:srgbClr val="7f7f7f"/>
                </a:solidFill>
                <a:latin typeface="Georgia"/>
              </a:rPr>
              <a:t>Check </a:t>
            </a:r>
            <a:r>
              <a:rPr b="0" lang="en-US" sz="2600" spc="-1" strike="noStrike">
                <a:solidFill>
                  <a:srgbClr val="7f7f7f"/>
                </a:solidFill>
                <a:latin typeface="Georgia"/>
              </a:rPr>
              <a:t>– </a:t>
            </a:r>
            <a:r>
              <a:rPr b="0" lang="en-US" sz="2400" spc="-1" strike="noStrike">
                <a:solidFill>
                  <a:srgbClr val="7f7f7f"/>
                </a:solidFill>
                <a:latin typeface="Georgia"/>
              </a:rPr>
              <a:t>Ask a weaker student to tell / show you what they will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6T10:16:07Z</dcterms:created>
  <dc:creator>Jenny Hardacre</dc:creator>
  <dc:description/>
  <dc:language>en-US</dc:language>
  <cp:lastModifiedBy>Emma Sheldon</cp:lastModifiedBy>
  <dcterms:modified xsi:type="dcterms:W3CDTF">2017-05-22T09:41:32Z</dcterms:modified>
  <cp:revision>4</cp:revision>
  <dc:subject/>
  <dc:title>Structuring your lesson</dc:title>
</cp:coreProperties>
</file>