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2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3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3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3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4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4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4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5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039320" y="788760"/>
            <a:ext cx="507204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21800" y="4925880"/>
            <a:ext cx="5707080" cy="45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05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dt" idx="20"/>
          </p:nvPr>
        </p:nvSpPr>
        <p:spPr>
          <a:xfrm>
            <a:off x="4093920" y="-360"/>
            <a:ext cx="3058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21"/>
          </p:nvPr>
        </p:nvSpPr>
        <p:spPr>
          <a:xfrm>
            <a:off x="0" y="9852120"/>
            <a:ext cx="305928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22"/>
          </p:nvPr>
        </p:nvSpPr>
        <p:spPr>
          <a:xfrm>
            <a:off x="409392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E34BF-237A-416F-8065-05ED9AD9FEA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781F9-CB78-4361-994E-7149C70E130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0" y="-22068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1B5A4F-B7F2-40B5-B947-4BD6986293F9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F6CB4-F74C-4F8D-B04E-E2C47C0642D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0" y="-1262160"/>
            <a:ext cx="144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6BEDEA-9F19-452B-999D-D36B0A40B4BB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0CBE8-D799-4A88-A301-85AE82B726E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270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3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73BBCF-A303-452B-823E-D779570D1045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5BE-1863-4A2A-862E-B4B0F763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982-471D-4A7D-A65C-93E922A7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D07-A51C-4F82-A20A-A888802D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962-E2F4-47FC-ABB7-A161B947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0F9B-372C-4E58-ADE7-ACE8ABA8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950B-907A-4D93-8179-4AF1DF91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4C3A-D748-4931-A098-1845B931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E76B-AD5A-44EA-AE70-EB286A89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5096-62B1-485D-8F6B-81A7C757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8424-14BB-4A06-82AE-FB427F47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34A4-9F48-42FF-8E15-0D5BE9BA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A53-7F33-4059-89C5-10918A49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6A24-B3FD-44BA-9C94-E6B5340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03DB-1A53-483F-BD92-2DBEF74F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63DC-42E7-496A-9E22-5034415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2999-114C-47F9-B32C-5C209749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982C-4DCB-4BF5-95C2-516EF115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E6612-C327-495C-930B-65C55AB0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79B1-C2FF-4408-9470-0B5A4751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ACBB-09A6-4748-8461-6A342162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606F-A90D-4BF0-8E97-52302D13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86EF-5EBC-4108-914C-559DB1C0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AD5-BCDC-48AC-B925-0DFB2E39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EA95-C75F-46FC-A368-2CD522B9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D81E-2D37-40E7-97A7-22F40138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2C5C-08AF-4C06-9144-DF0C458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701B-4BE6-4B33-9A9A-80FBFD58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3C6A-29B3-4ED8-ACDE-D354864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1552-BDC9-45C4-AFA7-511F9B65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A9D9-E50D-4F79-AA81-C3A24883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CE6-7496-4BA8-BFDC-DCE03FE0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EF0-CBC2-4732-8C02-D4BDD775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586-EB6D-468A-9E47-B1BDBBE3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2C9-540E-4476-B0B7-0D185C1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FD7-1823-4DE0-B910-62586BF9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4A4-AE28-4160-8DE9-185A8F83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5736C-1744-4895-91AB-39DC7DBDDA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7101000" y="14436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6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7056360" y="106200"/>
            <a:ext cx="2793960" cy="7956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7120080" y="204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8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19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7E68FC-44D1-478F-B5ED-251FF605264A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30/06/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3A3715-8FCE-4D5A-A19E-60C28F8ADD51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6742080" y="108000"/>
            <a:ext cx="3260880" cy="928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7089840" y="250920"/>
            <a:ext cx="2793960" cy="79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7120080" y="204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2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7230960" y="123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3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7120080" y="108000"/>
            <a:ext cx="2793960" cy="795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4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"/>
          <p:cNvPicPr/>
          <p:nvPr/>
        </p:nvPicPr>
        <p:blipFill>
          <a:blip r:embed="rId2"/>
          <a:stretch/>
        </p:blipFill>
        <p:spPr>
          <a:xfrm>
            <a:off x="6912000" y="324000"/>
            <a:ext cx="2795400" cy="7952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5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2920" y="842760"/>
            <a:ext cx="9072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tructuring your less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503280" y="2192400"/>
            <a:ext cx="907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Warmer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 generate interest, locate the language to be learned/skill to be practised within wider sequence of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Body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 ideally at least 3 activities with different focuses to provide lots of variety (pairs, groups, reading, vocabulary, game, visual,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Plenary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Review as a class what has been learned, e.g. whole class discussion, Q+A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7858080" y="6586560"/>
            <a:ext cx="206532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2920" y="921960"/>
            <a:ext cx="907236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-P-P: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 way of presenting new languag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0" y="1825560"/>
            <a:ext cx="10080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5a8b25"/>
                </a:solidFill>
                <a:latin typeface="Georgia"/>
                <a:ea typeface="Microsoft YaHei"/>
              </a:rPr>
              <a:t>  </a:t>
            </a: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ESENT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The teacher </a:t>
            </a:r>
            <a:r>
              <a:rPr b="1" lang="en-US" sz="2800" spc="-1" strike="noStrike">
                <a:solidFill>
                  <a:srgbClr val="07b4b8"/>
                </a:solidFill>
                <a:latin typeface="Georgia"/>
                <a:ea typeface="Microsoft YaHei"/>
              </a:rPr>
              <a:t>presents</a:t>
            </a:r>
            <a:r>
              <a:rPr b="1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an item of language – usually in context. Class looks at rules of use and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ACTICE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Students do one or more controlled </a:t>
            </a:r>
            <a:r>
              <a:rPr b="1" lang="en-US" sz="2800" spc="-1" strike="noStrike">
                <a:solidFill>
                  <a:srgbClr val="07b4b8"/>
                </a:solidFill>
                <a:latin typeface="Georgia"/>
                <a:ea typeface="Microsoft YaHei"/>
              </a:rPr>
              <a:t>practice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activities (focus on accura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ODUCE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Students use the target language in freer practice activities (focus on fluency)</a:t>
            </a:r>
            <a:br>
              <a:rPr sz="2800"/>
            </a:br>
            <a:r>
              <a:rPr b="0" lang="en-US" sz="2600" spc="-1" strike="noStrike">
                <a:solidFill>
                  <a:srgbClr val="7f7f7f"/>
                </a:solidFill>
                <a:latin typeface="Georgia"/>
                <a:ea typeface="Microsoft YaHei"/>
              </a:rPr>
              <a:t>E.g. Role play, writing task,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Georgia"/>
                <a:ea typeface="Microsoft YaHe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72960" y="634680"/>
            <a:ext cx="9072720" cy="11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Giving Instruction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414360" y="1627200"/>
            <a:ext cx="907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When planning lessons think about the instructions you will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Grade your language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</a:t>
            </a: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only use language the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students already know. Use imperatives, not polite request forms.</a:t>
            </a:r>
            <a:br>
              <a:rPr sz="26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Break instructions up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 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don't tell them everything they have to do at once.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Demonstration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Show, don’t just explain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Example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Do an example as a class e.g. on the board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Check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Ask a weaker student to tell / show you what they will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6T10:16:07Z</dcterms:created>
  <dc:creator>Jenny Hardacre</dc:creator>
  <dc:description/>
  <dc:language>en-US</dc:language>
  <cp:lastModifiedBy>Emma Sheldon</cp:lastModifiedBy>
  <dcterms:modified xsi:type="dcterms:W3CDTF">2017-05-22T09:41:32Z</dcterms:modified>
  <cp:revision>4</cp:revision>
  <dc:subject/>
  <dc:title>Structuring your lesson</dc:title>
</cp:coreProperties>
</file>