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E2C38-B4CA-4098-A094-A004FA0F10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3AE03-D8BB-4272-A77E-E678C74EB2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B8C-AAAF-4C71-8406-58B1F8E8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4D1-2AC0-4E33-A096-40403D2E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FCC-3A47-492F-B019-99B217D7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8FD-5F7C-4748-9C8F-B43951E7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308-10AE-4749-AF60-0AF2CCEA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9C1-547E-4BE5-A178-F2821A28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A07-6200-43C6-8296-CAB0235D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7C1-7AD1-43F9-A19E-5C1CD6EE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C43-5F3D-44C9-A311-9BE94039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A15-7382-4939-BFB9-85DCA586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CDD-2E31-4AD7-9BE5-C70D85C2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AAC-8BCB-4E8F-B392-826C8AE8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B9071-4F21-4E14-81E8-DEBE6F919F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rebuchet MS"/>
                <a:ea typeface="Calibri"/>
              </a:rPr>
              <a:t>CEFR LEV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40960"/>
            <a:ext cx="9070920" cy="504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understand with ease virtually everything heard or 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C1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use language flexibly and effectively for social, aca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and professional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B2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interact with a degree of fluency and spontane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makes  interaction with native speakers quite possible with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strain for either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B1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understand the main points of clear standard input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familiar matters encountered in work, school, leisure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A2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communicate in simple and routine tasks requiring a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exchange of information on familiar and routine mat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A1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understand and use familiar everyday expressions and 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basic phrases. Can interact in a simple way provided the oth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person talks slowly and clearly and is prepared to hel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985080" y="141120"/>
            <a:ext cx="2959200" cy="69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3T10:25:36Z</dcterms:created>
  <dc:creator>Jenny Hardacre</dc:creator>
  <dc:description/>
  <dc:language>en-US</dc:language>
  <cp:lastModifiedBy>TEFl Academy</cp:lastModifiedBy>
  <dcterms:modified xsi:type="dcterms:W3CDTF">2017-05-16T14:20:16Z</dcterms:modified>
  <cp:revision>2</cp:revision>
  <dc:subject/>
  <dc:title>CEFR LEVELS</dc:title>
</cp:coreProperties>
</file>