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2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3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3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3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3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3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4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4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4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4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5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039320" y="788760"/>
            <a:ext cx="507204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21800" y="4925880"/>
            <a:ext cx="5707080" cy="45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05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14"/>
          </p:nvPr>
        </p:nvSpPr>
        <p:spPr>
          <a:xfrm>
            <a:off x="4093920" y="-360"/>
            <a:ext cx="3058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15"/>
          </p:nvPr>
        </p:nvSpPr>
        <p:spPr>
          <a:xfrm>
            <a:off x="0" y="9852120"/>
            <a:ext cx="305928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16"/>
          </p:nvPr>
        </p:nvSpPr>
        <p:spPr>
          <a:xfrm>
            <a:off x="409392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665EE-1949-4DEE-9F6C-72383A18BB8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1011C-A978-4F7C-AC1E-D7C1AFC8AC1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0" y="-22068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9D80AB-A644-434F-8E9D-65BA8D9914C0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3D4BD-00A2-4B93-8767-7520FB49A4F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0" y="-1262160"/>
            <a:ext cx="144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5296F7-2360-4FB2-B254-4F7417906F43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27A86-2B9E-42B8-B2B0-E392F767B5E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270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3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4BD3D2-210D-43B4-BF19-2CC9CAD56D80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39E-C3FD-4462-B35B-05E1634E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250-0FCE-4668-8939-8A34CAD6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C31-F53F-48DC-81DF-6ADF0FDA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02E-85D5-4F51-97BE-9414B886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6CB-C5DD-4A05-9614-87E679DE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D1F-1329-42EE-9E9D-6DA6FD15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0E5-B069-40DE-8527-CAADE951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FDF-8789-4CEE-84E2-1ADA89F8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5D2-FF90-47F6-8FE8-EE0631AB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E61-70C2-49EB-85D7-7AD3E7A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E72-F670-4951-BB6F-2737AEC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627-D277-4E52-AC87-40968E0D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350AD-3687-4005-9D96-C3B1BF4227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7056360" y="106200"/>
            <a:ext cx="2793960" cy="795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2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"/>
          <p:cNvPicPr/>
          <p:nvPr/>
        </p:nvPicPr>
        <p:blipFill>
          <a:blip r:embed="rId2"/>
          <a:stretch/>
        </p:blipFill>
        <p:spPr>
          <a:xfrm>
            <a:off x="7120080" y="204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13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6742080" y="108000"/>
            <a:ext cx="3260880" cy="928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7089840" y="250920"/>
            <a:ext cx="2793960" cy="796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6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7120080" y="204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7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7230960" y="123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8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7120080" y="108000"/>
            <a:ext cx="2793960" cy="795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9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6912000" y="324000"/>
            <a:ext cx="2795400" cy="7952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0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6" descr=""/>
          <p:cNvPicPr/>
          <p:nvPr/>
        </p:nvPicPr>
        <p:blipFill>
          <a:blip r:embed="rId2"/>
          <a:stretch/>
        </p:blipFill>
        <p:spPr>
          <a:xfrm>
            <a:off x="7101000" y="14436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1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2920" y="842760"/>
            <a:ext cx="9072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tructuring your less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503280" y="2192400"/>
            <a:ext cx="907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Warmer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 generate interest, locate the language to be learned/skill to be practised within wider sequence of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Body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 ideally at least 3 activities with different focuses to provide lots of variety (pairs, groups, reading, vocabulary, game, visual,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Plenary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Review as a class what has been learned, e.g. whole class discussion, Q+A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7858080" y="6586560"/>
            <a:ext cx="206532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2920" y="921960"/>
            <a:ext cx="907236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-P-P: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 way of presenting new languag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0" y="1825560"/>
            <a:ext cx="10080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5a8b25"/>
                </a:solidFill>
                <a:latin typeface="Georgia"/>
                <a:ea typeface="Microsoft YaHei"/>
              </a:rPr>
              <a:t>  </a:t>
            </a: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ESENT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The teacher </a:t>
            </a:r>
            <a:r>
              <a:rPr b="1" lang="en-US" sz="2800" spc="-1" strike="noStrike">
                <a:solidFill>
                  <a:srgbClr val="07b4b8"/>
                </a:solidFill>
                <a:latin typeface="Georgia"/>
                <a:ea typeface="Microsoft YaHei"/>
              </a:rPr>
              <a:t>presents</a:t>
            </a:r>
            <a:r>
              <a:rPr b="1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an item of language – usually in context. Class looks at rules of use and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ACTICE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Students do one or more controlled </a:t>
            </a:r>
            <a:r>
              <a:rPr b="1" lang="en-US" sz="2800" spc="-1" strike="noStrike">
                <a:solidFill>
                  <a:srgbClr val="07b4b8"/>
                </a:solidFill>
                <a:latin typeface="Georgia"/>
                <a:ea typeface="Microsoft YaHei"/>
              </a:rPr>
              <a:t>practice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activities (focus on accura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ODUCE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Students use the target language in freer practice activities (focus on fluency)</a:t>
            </a:r>
            <a:br>
              <a:rPr sz="2800"/>
            </a:br>
            <a:r>
              <a:rPr b="0" lang="en-US" sz="2600" spc="-1" strike="noStrike">
                <a:solidFill>
                  <a:srgbClr val="7f7f7f"/>
                </a:solidFill>
                <a:latin typeface="Georgia"/>
                <a:ea typeface="Microsoft YaHei"/>
              </a:rPr>
              <a:t>E.g. Role play, writing task,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Georgia"/>
                <a:ea typeface="Microsoft YaHe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72960" y="634680"/>
            <a:ext cx="9072720" cy="11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Giving Instruction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414360" y="1627200"/>
            <a:ext cx="907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When planning lessons think about the instructions you will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Grade your language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</a:t>
            </a: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only use language the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students already know. Use imperatives, not polite request forms.</a:t>
            </a:r>
            <a:br>
              <a:rPr sz="26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Break instructions up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 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don't tell them everything they have to do at once.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Demonstration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Show, don’t just explain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Example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Do an example as a class e.g. on the board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Check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Ask a weaker student to tell / show you what they will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6T10:16:07Z</dcterms:created>
  <dc:creator>Jenny Hardacre</dc:creator>
  <dc:description/>
  <dc:language>en-US</dc:language>
  <cp:lastModifiedBy>Emma Sheldon</cp:lastModifiedBy>
  <dcterms:modified xsi:type="dcterms:W3CDTF">2017-05-22T09:44:00Z</dcterms:modified>
  <cp:revision>6</cp:revision>
  <dc:subject/>
  <dc:title>Structuring your lesson</dc:title>
</cp:coreProperties>
</file>